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0.gif" ContentType="image/gif"/>
  <Override PartName="/ppt/media/cashreg.wav" ContentType="audio/x-wav"/>
  <Override PartName="/ppt/media/image9.wmf" ContentType="image/x-wmf"/>
  <Override PartName="/ppt/media/image8.gif" ContentType="image/gif"/>
  <Override PartName="/ppt/media/image1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21.jpeg" ContentType="image/jpeg"/>
  <Override PartName="/ppt/media/image3.wmf" ContentType="image/x-wmf"/>
  <Override PartName="/ppt/media/image20.wmf" ContentType="image/x-wmf"/>
  <Override PartName="/ppt/media/image18.wmf" ContentType="image/x-wmf"/>
  <Override PartName="/ppt/media/image15.gif" ContentType="image/gif"/>
  <Override PartName="/ppt/media/image17.wmf" ContentType="image/x-wmf"/>
  <Override PartName="/ppt/media/image16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C85E-7DC1-4372-BC78-EB0C2D24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90B-582C-4D73-88D2-AC91B7BD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BE1-D488-454E-8CDA-1BA89FC9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4884-7AD6-4A97-8A09-58D3C53E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4013-F85A-411C-9C77-FA2D4482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3758-D883-472F-B3BE-28664665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5F5F-AEA3-4780-BEF9-030206C0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230F-1234-42F0-BA29-C32B071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3CE4-B0A8-4FE8-A624-D079A57E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9391-9668-4EE9-9E52-65874F04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55DC-E877-4945-A14E-2981801D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7EF5-ADD9-4444-AC7B-B6953DD6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AFAB-11C8-46A1-B183-1CDFF9EE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DA34-4E35-4772-99E2-1AED1F1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AFB0-AA9B-4C44-8802-31A2CD41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861A-8DF4-4DE6-91A5-0A62C763F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F8BD-F118-40AF-9DD2-E2F37C9E2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E67-7ED7-41A1-9F4D-CD0670B9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71E-00F1-488D-8B4D-8825597A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66BB-70A3-4362-9634-F7D70CE9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F36-11F8-4309-9002-5D68B0D4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6F8E-E981-4011-AE65-FF6E2DBF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27E-ECFB-4A8F-B9DC-101BDEC3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A3F-EF44-4FA9-BD6B-E3FED72D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6E3A-D047-4796-82CE-33AB73B6810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C005-CE3C-4CA3-BC13-563FAEB213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hyperlink" Target="http://www.go.com/Split?col=WR&amp;qt=george+washington&amp;Go=GO!&amp;nh=1&amp;pat=imd&amp;sf=1&amp;svx=WD_thumb&amp;st=3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0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.com/Split?pns=0&amp;qt=%22serial+killer%22&amp;col=MC&amp;nh=1&amp;pat=imd&amp;st=0&amp;svx=WD_thumb" TargetMode="Externa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99"/>
                </a:solidFill>
                <a:latin typeface="Times New Roman"/>
              </a:rPr>
              <a:t>The Game of Politics</a:t>
            </a:r>
            <a:endParaRPr b="0" lang="en-US" sz="8800" spc="-1" strike="noStrike">
              <a:solidFill>
                <a:srgbClr val="ffcc99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429000" y="3276720"/>
            <a:ext cx="3581280" cy="33368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All people wan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change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for th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better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 question really is, “How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uch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do I have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o do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to have an impact on my community or nation?”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or many, the cost is too high!  So they do little. </a:t>
            </a:r>
            <a:r>
              <a:rPr b="0" lang="en-US" sz="4800" spc="-1" strike="noStrike">
                <a:solidFill>
                  <a:srgbClr val="eaeaea"/>
                </a:solidFill>
                <a:latin typeface="Wingdings"/>
                <a:ea typeface="Wingdings"/>
              </a:rPr>
              <a:t>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1143000"/>
            <a:ext cx="1544760" cy="1752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81080" y="533520"/>
            <a:ext cx="6629400" cy="1752480"/>
          </a:xfrm>
          <a:prstGeom prst="downArrowCallout">
            <a:avLst>
              <a:gd name="adj1" fmla="val 49112"/>
              <a:gd name="adj2" fmla="val 39580"/>
              <a:gd name="adj3" fmla="val 13079"/>
              <a:gd name="adj4" fmla="val 66667"/>
            </a:avLst>
          </a:prstGeom>
          <a:solidFill>
            <a:srgbClr val="80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undamental </a:t>
            </a: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fficacy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First:  Gaining knowledge, and then building conviction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Conviction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:  Standing firm with what you know is tru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1643040" cy="37004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838440" cy="2373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77320" y="3352680"/>
            <a:ext cx="838080" cy="2373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71800" y="371808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A spectrum is where you have a range of possibilities with two extreme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e extr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772400" y="57913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other extrem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19051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Lef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96080" y="19051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igh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312408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onservativ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38280" y="3124080"/>
            <a:ext cx="312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Liberal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0481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oderate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495680"/>
            <a:ext cx="75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Be careful about committing to being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moderate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!  Many moderates are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indecisive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or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wishy-washy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81280" y="1523880"/>
            <a:ext cx="3505320" cy="159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819520" y="3809880"/>
            <a:ext cx="4994280" cy="439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417024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52480" y="51814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 most important thing is that you are always willing to learn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676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Political cultur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refers to all the ways people think and feel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lif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should be in shared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society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520" y="4190760"/>
            <a:ext cx="76201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 what ways can we resolve our conflicts peacefully in the “public square”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 Political Spectrum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2895480"/>
            <a:ext cx="6553080" cy="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458200" y="2666880"/>
            <a:ext cx="0" cy="457200"/>
          </a:xfrm>
          <a:prstGeom prst="line">
            <a:avLst/>
          </a:prstGeom>
          <a:ln cap="sq" w="57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417024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219320" y="51814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re is always a right &amp; wrong to every issue, even if very complex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81080" y="533520"/>
            <a:ext cx="6629400" cy="1752480"/>
          </a:xfrm>
          <a:prstGeom prst="downArrowCallout">
            <a:avLst>
              <a:gd name="adj1" fmla="val 49112"/>
              <a:gd name="adj2" fmla="val 39580"/>
              <a:gd name="adj3" fmla="val 13079"/>
              <a:gd name="adj4" fmla="val 66667"/>
            </a:avLst>
          </a:prstGeom>
          <a:solidFill>
            <a:srgbClr val="8000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undamental </a:t>
            </a:r>
            <a:r>
              <a:rPr b="0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fficacy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 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3520" y="2438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Secondly:  Become active, participate: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Voting / speaking out formally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ampaigning, working for a candidate or issu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Running for offic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7120" y="61722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Voting in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Political partie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are an inescapable part of the process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What are they?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y are organizations based on common political principles used to affect public policy on a wide scal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y seek to control government by gaining and holding public office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Political partie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are an inescapable part of the process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What do they do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Nominate candidate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Inform the public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0" y="1905120"/>
            <a:ext cx="1925640" cy="2209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934320" y="4191120"/>
            <a:ext cx="1939680" cy="2133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19320" y="4489560"/>
            <a:ext cx="7619760" cy="23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Organize government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prove legislatio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Keep party in power in check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Their number one objective: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6781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Times New Roman"/>
              </a:rPr>
              <a:t>To get candidates elected!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3048120" cy="2660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Originally, th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founder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did no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anticipate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having them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oday, the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Republicans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and the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Democrats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           are the two major parties. 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1905120" cy="1514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155000" y="4343400"/>
            <a:ext cx="1989000" cy="1469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00400" y="4419720"/>
            <a:ext cx="1752480" cy="1066680"/>
          </a:xfrm>
          <a:prstGeom prst="wedgeRoundRectCallout">
            <a:avLst>
              <a:gd name="adj1" fmla="val -66759"/>
              <a:gd name="adj2" fmla="val 22768"/>
              <a:gd name="adj3" fmla="val 16667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ote Dem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4419720"/>
            <a:ext cx="1752480" cy="1066680"/>
          </a:xfrm>
          <a:prstGeom prst="wedgeRoundRectCallout">
            <a:avLst>
              <a:gd name="adj1" fmla="val 67208"/>
              <a:gd name="adj2" fmla="val 18305"/>
              <a:gd name="adj3" fmla="val 16667"/>
            </a:avLst>
          </a:prstGeom>
          <a:solidFill>
            <a:srgbClr val="eaeaea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Vote GOP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58672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at about other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53280" y="579132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art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Qui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500"/>
                            </p:stCondLst>
                            <p:childTnLst>
                              <p:par>
                                <p:cTn id="3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Interest group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are also designed to have an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impact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on governmen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affair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95280" y="3047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hat are these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People with specific objectives who try to influence policy makers in government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511960" y="2209680"/>
            <a:ext cx="3632040" cy="1733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What interest groups do: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epresent concerns of common citizens.  (You can join one </a:t>
            </a:r>
            <a:r>
              <a:rPr b="0" lang="en-US" sz="4400" spc="-1" strike="noStrike">
                <a:solidFill>
                  <a:srgbClr val="eaeaea"/>
                </a:solidFill>
                <a:latin typeface="Wingdings"/>
                <a:ea typeface="Wingdings"/>
              </a:rPr>
              <a:t>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!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elp citizens explain complex views to public officials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aise public awareness of particular issues of concern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What interest groups do: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8487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Inform public officials with detailed information about specialized subject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Serve as a check on public officials and other interest groups. 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(So no one person or group has too much power!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How are interest groups different from political parties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ir concerns are much more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narrow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in scope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y don’t have candidates themselve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ey just want to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influence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office holders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1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6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There are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shared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values such as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22096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liberty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equality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civic duty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53341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Can you think of any others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10080" y="2438280"/>
            <a:ext cx="3429000" cy="1981440"/>
          </a:xfrm>
          <a:prstGeom prst="rect">
            <a:avLst/>
          </a:prstGeom>
          <a:solidFill>
            <a:srgbClr val="9de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5304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41008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Pluribus Unu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589480" cy="34574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individuals who actually visit members of Congress to try to get them to vote they way they want are called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Times New Roman"/>
              </a:rPr>
              <a:t>lobbyists</a:t>
            </a: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371240" y="3047760"/>
            <a:ext cx="5257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omes from waiting in the </a:t>
            </a:r>
            <a:r>
              <a:rPr b="0" i="1" lang="en-US" sz="4000" spc="-1" strike="noStrike">
                <a:solidFill>
                  <a:srgbClr val="eaeaea"/>
                </a:solidFill>
                <a:latin typeface="Times New Roman"/>
              </a:rPr>
              <a:t>lobby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outside the Senate and House chambers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ey must be very persuasive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57200" y="2892600"/>
            <a:ext cx="8229600" cy="1066680"/>
            <a:chOff x="457200" y="2892600"/>
            <a:chExt cx="8229600" cy="1066680"/>
          </a:xfrm>
        </p:grpSpPr>
        <p:sp>
          <p:nvSpPr>
            <p:cNvPr id="213" name=""/>
            <p:cNvSpPr/>
            <p:nvPr/>
          </p:nvSpPr>
          <p:spPr>
            <a:xfrm>
              <a:off x="457200" y="28926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457200" y="2892600"/>
              <a:ext cx="7886880" cy="1066680"/>
              <a:chOff x="457200" y="2892600"/>
              <a:chExt cx="7886880" cy="1066680"/>
            </a:xfrm>
          </p:grpSpPr>
          <p:sp>
            <p:nvSpPr>
              <p:cNvPr id="215" name=""/>
              <p:cNvSpPr/>
              <p:nvPr/>
            </p:nvSpPr>
            <p:spPr>
              <a:xfrm>
                <a:off x="457200" y="2892600"/>
                <a:ext cx="7886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7200" y="2892600"/>
                <a:ext cx="788688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ffcc"/>
                    </a:solidFill>
                    <a:uFillTx/>
                    <a:latin typeface="Times New Roman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eaeaea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       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8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An important arm of interest groups are…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23520" y="335232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Political Action Committe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Their specific purpose is to raise and </a:t>
            </a:r>
            <a:r>
              <a:rPr b="0" lang="en-US" sz="4400" spc="-1" strike="noStrike">
                <a:solidFill>
                  <a:srgbClr val="00cc00"/>
                </a:solidFill>
                <a:latin typeface="Arial Black"/>
              </a:rPr>
              <a:t>give money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to candidates. 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6880" y="190512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aeaea"/>
                </a:solidFill>
                <a:latin typeface="Arial Black"/>
              </a:rPr>
              <a:t>PAC’s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124080" y="0"/>
            <a:ext cx="5791320" cy="6476760"/>
            <a:chOff x="3124080" y="0"/>
            <a:chExt cx="5791320" cy="6476760"/>
          </a:xfrm>
        </p:grpSpPr>
        <p:sp>
          <p:nvSpPr>
            <p:cNvPr id="221" name=""/>
            <p:cNvSpPr/>
            <p:nvPr/>
          </p:nvSpPr>
          <p:spPr>
            <a:xfrm>
              <a:off x="3124080" y="0"/>
              <a:ext cx="5791320" cy="647676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52680" y="176040"/>
              <a:ext cx="5562720" cy="61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Candidates need lots of money! 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For media coverage, to hire people to work to get him known, for travel and other expenses…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How do you think they expect to get all that money?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606680"/>
            <a:ext cx="3124080" cy="3074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5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What can be the problem with all this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nk about it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3581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Lobbyi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5880" y="36576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Politici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589480" cy="3457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1574640" cy="16621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2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What can be the problem with all this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Think about it…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581280" y="2895480"/>
            <a:ext cx="2589480" cy="34578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4114800" y="3809880"/>
            <a:ext cx="1574640" cy="166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143000" y="35812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Lobbyist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5880" y="365760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Black"/>
              </a:rPr>
              <a:t>Politicia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 of Interest Group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ARP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Association of Retired Pers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E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Education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AD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others Against Drunk Driving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Sierra Club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hamber of Commerce of the United Stat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FL-CIO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eague of Women Vot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nsumers Union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A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Medical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RA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Rifle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ACP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Association for the Advancement of Colored Peopl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Bar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Council of Churche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CLU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Civil Liberties Un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FR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uncil on Foreign Relation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ommon Caus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AA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merican Automobile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6201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ational Audubon Societ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ALDEF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an American Legal Defense and Education Fund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Associated Milk Producer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nternational Brotherhood of Teamsters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ulip Growers Associatio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You guys ready to get out of here and eat </a:t>
            </a:r>
            <a:r>
              <a:rPr b="0" lang="en-US" sz="4400" spc="-1" strike="noStrike" u="sng">
                <a:solidFill>
                  <a:srgbClr val="ffcc99"/>
                </a:solidFill>
                <a:uFillTx/>
                <a:latin typeface="Times New Roman"/>
              </a:rPr>
              <a:t>already</a:t>
            </a: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Well, all right, then…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457200"/>
            <a:ext cx="2895480" cy="5867280"/>
          </a:xfrm>
          <a:prstGeom prst="wedgeRoundRectCallout">
            <a:avLst>
              <a:gd name="adj1" fmla="val 72259"/>
              <a:gd name="adj2" fmla="val 2976"/>
              <a:gd name="adj3" fmla="val 16667"/>
            </a:avLst>
          </a:prstGeom>
          <a:solidFill>
            <a:srgbClr val="33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Haettenschweiler"/>
              </a:rPr>
              <a:t>Here’s your lunch you cute little brats!  These peas are especially good, I got them from a can I pulled from way in the back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2209680"/>
            <a:ext cx="2971800" cy="4191120"/>
          </a:xfrm>
          <a:prstGeom prst="wedgeRoundRectCallout">
            <a:avLst>
              <a:gd name="adj1" fmla="val -58601"/>
              <a:gd name="adj2" fmla="val -34319"/>
              <a:gd name="adj3" fmla="val 16667"/>
            </a:avLst>
          </a:prstGeom>
          <a:solidFill>
            <a:srgbClr val="333399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Haettenschweiler"/>
              </a:rPr>
              <a:t>If you eat all your lunch you can have our special dessert!  Fudge Jello Celery Surprise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914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Toleranc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is a key value today, referring to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differing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values.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28440" y="3047760"/>
            <a:ext cx="7010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(What really 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is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tolerance and how has it been distorted today?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Key question in all this:   </a:t>
            </a:r>
            <a:r>
              <a:rPr b="0" lang="en-US" sz="4400" spc="-1" strike="noStrike" u="sng">
                <a:solidFill>
                  <a:srgbClr val="eaeaea"/>
                </a:solidFill>
                <a:uFillTx/>
                <a:latin typeface="Times New Roman"/>
              </a:rPr>
              <a:t>What beliefs do we </a:t>
            </a:r>
            <a:r>
              <a:rPr b="0" i="1" lang="en-US" sz="4400" spc="-1" strike="noStrike" u="sng">
                <a:solidFill>
                  <a:srgbClr val="eaeaea"/>
                </a:solidFill>
                <a:uFillTx/>
                <a:latin typeface="Times New Roman"/>
              </a:rPr>
              <a:t>share</a:t>
            </a:r>
            <a:r>
              <a:rPr b="0" i="1" lang="en-US" sz="44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837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How come those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values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 have been inconsistent with </a:t>
            </a:r>
            <a:r>
              <a:rPr b="0" lang="en-US" sz="5400" spc="-1" strike="noStrike" u="sng">
                <a:solidFill>
                  <a:srgbClr val="ffcc99"/>
                </a:solidFill>
                <a:uFillTx/>
                <a:latin typeface="Times New Roman"/>
              </a:rPr>
              <a:t>practice</a:t>
            </a:r>
            <a:r>
              <a:rPr b="0" lang="en-US" sz="5400" spc="-1" strike="noStrike">
                <a:solidFill>
                  <a:srgbClr val="ffcc99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828440" y="2743200"/>
            <a:ext cx="7010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n example is </a:t>
            </a:r>
            <a:r>
              <a:rPr b="0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slavery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Didn’t we say a long time ago </a:t>
            </a:r>
            <a:r>
              <a:rPr b="0" lang="en-US" sz="5400" spc="-1" strike="noStrike">
                <a:solidFill>
                  <a:srgbClr val="ffffcc"/>
                </a:solidFill>
                <a:latin typeface="Times New Roman"/>
              </a:rPr>
              <a:t>“All men are created equal”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?…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Problem is that thes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values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can be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vague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Again: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(we’ve asked these before…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What does “equality” really mean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How much “liberty” should one have?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And that is why many times there are conflicting rights claims!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25142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Many times you claim you can do something and I claim I can do something else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nd this situation is always much more complex than we think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When large groups of people are involved…</a:t>
            </a:r>
            <a:br>
              <a:rPr sz="4800"/>
            </a:b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Such as in this country…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266688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8000" spc="-1" strike="noStrike">
                <a:solidFill>
                  <a:srgbClr val="eaeaea"/>
                </a:solidFill>
                <a:latin typeface="Times New Roman"/>
              </a:rPr>
              <a:t>Then politics plays a big part!</a:t>
            </a:r>
            <a:endParaRPr b="0" lang="en-US" sz="8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(And that means you’re in there somewhere!)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04920" y="533520"/>
            <a:ext cx="4494960" cy="5790600"/>
            <a:chOff x="304920" y="533520"/>
            <a:chExt cx="4494960" cy="579060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304920" y="533520"/>
              <a:ext cx="2803320" cy="5790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1775160" y="1772640"/>
              <a:ext cx="3024720" cy="2208600"/>
              <a:chOff x="1775160" y="1772640"/>
              <a:chExt cx="3024720" cy="2208600"/>
            </a:xfrm>
          </p:grpSpPr>
          <p:sp>
            <p:nvSpPr>
              <p:cNvPr id="105" name=""/>
              <p:cNvSpPr/>
              <p:nvPr/>
            </p:nvSpPr>
            <p:spPr>
              <a:xfrm rot="17053200">
                <a:off x="2469600" y="1537920"/>
                <a:ext cx="1599840" cy="2678040"/>
              </a:xfrm>
              <a:prstGeom prst="upArrowCallout">
                <a:avLst>
                  <a:gd name="adj1" fmla="val 11788"/>
                  <a:gd name="adj2" fmla="val 13269"/>
                  <a:gd name="adj3" fmla="val 31061"/>
                  <a:gd name="adj4" fmla="val 69309"/>
                </a:avLst>
              </a:prstGeom>
              <a:solidFill>
                <a:srgbClr val="ffffcc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982600" y="265608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 Black"/>
                  </a:rPr>
                  <a:t>You</a:t>
                </a:r>
                <a:endParaRPr b="0" lang="en-US" sz="3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r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32c3f"/>
            </a:gs>
            <a:gs pos="100000">
              <a:srgbClr val="4c618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But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involvement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 in government depends on feelings of </a:t>
            </a:r>
            <a:r>
              <a:rPr b="0" lang="en-US" sz="4800" spc="-1" strike="noStrike" u="sng">
                <a:solidFill>
                  <a:srgbClr val="ffcc99"/>
                </a:solidFill>
                <a:uFillTx/>
                <a:latin typeface="Times New Roman"/>
              </a:rPr>
              <a:t>efficacy</a:t>
            </a: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365760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This is </a:t>
            </a:r>
            <a:r>
              <a:rPr b="0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how much an individual feels he or she can affect political events</a:t>
            </a:r>
            <a:r>
              <a:rPr b="0" lang="en-US" sz="4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2892600"/>
            <a:ext cx="8229600" cy="1066680"/>
            <a:chOff x="457200" y="2892600"/>
            <a:chExt cx="8229600" cy="1066680"/>
          </a:xfrm>
        </p:grpSpPr>
        <p:sp>
          <p:nvSpPr>
            <p:cNvPr id="110" name=""/>
            <p:cNvSpPr/>
            <p:nvPr/>
          </p:nvSpPr>
          <p:spPr>
            <a:xfrm>
              <a:off x="457200" y="28926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457200" y="2892600"/>
              <a:ext cx="7886880" cy="1066680"/>
              <a:chOff x="457200" y="2892600"/>
              <a:chExt cx="7886880" cy="1066680"/>
            </a:xfrm>
          </p:grpSpPr>
          <p:sp>
            <p:nvSpPr>
              <p:cNvPr id="112" name=""/>
              <p:cNvSpPr/>
              <p:nvPr/>
            </p:nvSpPr>
            <p:spPr>
              <a:xfrm>
                <a:off x="457200" y="2892600"/>
                <a:ext cx="78868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7200" y="2892600"/>
                <a:ext cx="7886880" cy="10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ffffcc"/>
                    </a:solidFill>
                    <a:uFillTx/>
                    <a:latin typeface="Times New Roman"/>
                    <a:hlinkClick r:id="rId1"/>
                  </a:rPr>
                  <a:t>  </a:t>
                </a:r>
                <a:r>
                  <a:rPr b="0" lang="en-US" sz="6400" spc="-1" strike="noStrike">
                    <a:solidFill>
                      <a:srgbClr val="eaeaea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          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1600200" y="2895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How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effective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ne can be in the public square.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57400" y="228600"/>
            <a:ext cx="6705720" cy="3468600"/>
            <a:chOff x="2057400" y="228600"/>
            <a:chExt cx="6705720" cy="346860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057400" y="228600"/>
              <a:ext cx="3075120" cy="34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5334120" y="380880"/>
              <a:ext cx="3429000" cy="1828800"/>
            </a:xfrm>
            <a:prstGeom prst="wedgeRoundRectCallout">
              <a:avLst>
                <a:gd name="adj1" fmla="val -73287"/>
                <a:gd name="adj2" fmla="val 38629"/>
                <a:gd name="adj3" fmla="val 16667"/>
              </a:avLst>
            </a:prstGeom>
            <a:solidFill>
              <a:srgbClr val="eaeaea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I want you!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…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to be involved!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pull dir="r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07:01:55Z</dcterms:created>
  <dc:creator>WCDHS User</dc:creator>
  <dc:description/>
  <dc:language>en-US</dc:language>
  <cp:lastModifiedBy>MNS</cp:lastModifiedBy>
  <dcterms:modified xsi:type="dcterms:W3CDTF">2009-10-14T23:19:45Z</dcterms:modified>
  <cp:revision>47</cp:revision>
  <dc:subject/>
  <dc:title>The Game of Politics</dc:title>
</cp:coreProperties>
</file>